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421-BD94-4F1E-84CC-E2B468AF7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893-ADDF-49A5-9E75-3B35D3485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205B-FCC5-40B3-B1C8-E2D674710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81B-DC97-462F-968E-16D2ABADD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EC01-EBB0-43C8-929B-FDC1F5AC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8A3-983F-4CB6-B034-4824FA7BC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DD4-DF3D-4110-BB60-977587031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C12-57C4-44A0-9B45-10430A65C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7F7-6130-41F9-981E-D6E6D0557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D3A-56BA-493B-AD4A-EF692238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51E-B0B9-46F7-84B9-7B1BE61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6D12B-649F-429A-AF84-DB771AA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558B-F99E-4984-A895-D350103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8035E-B053-407E-BA44-227C72A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0CEC-6EFE-4DAA-832E-E0AFD27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4DC9F-0FAD-4391-8B7D-AA1C128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71D3A-D3F9-4BB9-8EC3-6875EC3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8E90-E1CB-40E8-B779-AACE484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45FDA-AE6B-4E89-B852-5DA0B9E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141FA-1A6D-4E56-915A-EBDBA1D1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363FE-E7EF-4DE1-A457-B106C6E5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463-48E5-4654-8DB0-903E8DEF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C19B5-2EBA-4810-A4D1-7279875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3384B-6568-4A48-AD59-525CA4A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DF77FB-A491-49B6-B1A1-778D91B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BDC34-8D1E-43BF-B606-DC781D8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DF5670-306C-4E1B-8715-890EE6F2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68159A-D605-4068-ACA8-E2567CA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9C51A-072F-462A-928B-0C8388F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1E516-7999-4AF5-9A99-DA5B922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902528-9C70-41B5-807B-5460DA2A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457FBE-1A19-41F8-ADB7-6A101F7D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3D0-59C9-43AC-86EF-8D75689B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8743A3-9742-47F3-89C5-B38104B0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1A68-D248-4D6F-9A0B-50A8A985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6BB6C-F55F-468C-BC57-A7E2FFB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5E55-2BD8-4D12-BA0C-FF1801EA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E070-AD86-4D5D-A37F-6791600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C767E-C03D-4F78-BBCD-CF7F8BE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1377-6AAD-49EB-856C-5072D928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27949-F47F-4328-9B4E-1955191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BF4C-74AD-4025-A2A8-E05DBB8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5BCC5-239F-4FA6-B7BB-675E485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6B2-8BD9-4C2B-A0AC-3700A0D8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3E86-46E6-4A08-9AE6-E6E674A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AFC5B-5944-4560-BDB0-ABCBBA24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662E2-560C-4967-919B-BA4C1FD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10FD3-3F2D-4AA1-A8D9-72F8FE1A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39A2E-2ABF-4B88-9D99-FADCD2D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625F7-C269-428F-8C00-272DBFE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D8F8E-05DE-4D41-B76D-B70156F1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C6BF5-946B-445A-B365-40726EDA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26FA-5E22-4ECD-A2F7-7042783D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F853-6F0E-4963-9CA7-89B5BBC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F29-AFB3-4355-8CC9-A587CBD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89736-8F4E-4A0D-9C1C-F2BC4C5B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85462-12E8-4E24-B311-BDA7BB7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6408D-8E74-47E9-8D69-177E1AF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657C1-4B4F-4BFB-943B-E0F3CB9B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765F0-41D7-4209-8FB2-B1687211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1AC0-CDD6-4326-B485-069CD92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ECD4-F4DA-465E-BE9A-F1CDEFF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50F-795F-4A15-9CA4-1C8DD116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0481-072F-48D2-A4D9-FD34817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3246-57E1-41F1-B58B-E35F60FA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672-F282-45E3-8732-23E8D26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30E3-887B-4E09-A9BA-943C54C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BD3-89A5-4C94-901B-F6D12F5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76A2-DE9F-4217-9305-7EA99C4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EE5-4A55-4650-B74C-C1E1E465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C247-76AC-4044-B9E1-D0453AF6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7104-E679-4C14-8CDB-D5783FB8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392F-A5E9-48E7-AF6B-EB2BD69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DEE4-0EC2-492D-98D3-A6137BC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E8CA-38F8-4F0D-9F16-14609A02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195A-FF05-48FA-BFE4-4192699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EF4-D763-41BA-9561-9832FFD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67F3-E707-448A-8CC4-D6B57C2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9C5E-3ECA-43A5-B1CF-53555D8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5004-C90B-4EBB-B0B3-F32EEC5E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D910-5754-4A9F-97A5-3982132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E343-AB16-47E9-A447-28A36F1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94B2-ABDE-4BF5-AC30-4746A0B1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0637-D89D-4577-AA8F-79769C75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F9157-71FB-4FDB-835E-FA4FB9CD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AC722-263F-47A2-96E8-1828BA2A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E14CC-AB33-450D-B841-C13CCAA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72C-78DD-49EF-9B9D-10D57AE6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09D67-0F42-45E3-80B9-5328D75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3DC3C-7E95-444C-B90A-EB61D8D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35198-CF13-4C43-A0F9-D56C954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8B5EA-4B66-46D3-82D8-8C07750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CD64A-E6FD-4432-9BAA-99EA5249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CC527-3E34-4D8F-A19B-3D35109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CBB34-FCC4-44B3-B05E-B0868E4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F166C-6738-4C50-ACA4-CB2EC729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49224-00E7-41DC-A82C-AD2F35F0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A8AEA-97CC-4BD8-B4C1-1E69B82C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7F5-C68E-4A63-B912-039CB958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96C84-1016-483F-8893-17C48FB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77296-E194-425A-8CC0-57F63978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09E73-0924-414A-AEBC-66A836F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0222A-5655-4044-AB99-E391C5D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6AE71-E8B5-4002-AB57-7F8968D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63B77-0198-4E1F-ACE9-A9FED45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B3535-C539-4E42-B8CD-81EC9E5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21512-8D26-4F59-BBB6-54BD2BC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C04DA-3055-47B3-9645-CE5E436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03C52-D307-447D-B5AA-EE131DB4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BAA-EC0A-4C23-88A2-49E36CE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CBC5C-4A5D-4F00-B41D-6F154463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42C53-7734-41C9-84E4-3D9F502B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2763C-DCE0-475C-AA66-1924D91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997A9-D25D-4CB8-9986-6E14134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C9618-D3A3-440B-892E-4B47800E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58EA4-556C-4256-8F8A-286468B5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2D020-C642-40A1-8477-CDABA63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2E9A6-7F3D-4DF7-B30F-D44CCE8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43861-6DF7-418A-9743-38C1C38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DEE1B-FBC3-426B-A00E-ACC1724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D3B-A10E-4DF3-9C86-1E8249E2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9305D-670D-4F22-8A94-A452AEA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7277A-913F-451B-B4F7-BDADF581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05561-709A-4AA1-A6AD-F18933EE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976C-1903-4710-B738-B3E2B4F8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91F5-4BC0-4623-B182-D4CA60CF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AC02-AE09-4906-8366-CD660D1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CE5C5-6762-46F9-8425-FDFBA2B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8E8CC-F5E5-43FA-A944-B713271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4333-C157-4118-AF3D-E1EF5635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3DAD-6085-42EA-9A91-DF5E64F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03B-E4C8-46E4-8F81-3220C9C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3B55-3055-482D-B6C5-943D5B5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52088-7F15-4761-A4AB-7B9844F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FAE7-0F1A-4484-822C-5E3654F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D2375-A7C1-40A2-A34E-485FB104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AB50-3BE8-4F19-B2DF-2A57212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1098D-82B8-46AA-A454-0E5A924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57BD-9E75-457D-91E7-A474E8A3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1BCBF-8652-44E7-B2AA-E262BBC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A878-9E28-45E5-8430-26BA0E6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B2C9-CE21-4E73-8E9D-5B1332F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A72-4A63-44A3-B0FB-22DEECB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C1E5-744A-4A61-9A88-C57395A5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BC75-08F2-4967-9D7F-37D66C1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799E8-545E-48A4-8247-420B672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F22B-3CC2-464C-8B01-B7CE3D8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F114-723B-42BB-AD0C-785C9C6E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8541-0F2D-4635-975F-5C5D5324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57B7-04E9-4006-8586-1D0F5370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7D926-5217-417E-B0F7-FEFB6FF3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F523-DD47-4605-B3D4-348156E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356FF-2909-45A0-8465-56BEF05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779B-7015-47E8-8E74-AAFAC2FB2E2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B246980-3E51-486A-8197-93CA1508D26B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D30E-D5C7-4507-931B-1A686E18B0F7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8F7C-7CA8-44A1-B65A-E7223578EF8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361EDCC8-BD1F-469F-9213-AD815EBAA9D6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531-30B6-4794-A67B-CD250DAB2BD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FA22-0F40-4CC1-A18C-610BE0C5024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77AB9153-9559-4E55-AFE0-081149FAB67B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0D4-20DB-4ABE-9208-6B23C677BF29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88D-F51D-4AC7-97E3-C3D8B5E97BF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93A467B-E424-435F-8551-C2CB867B854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BFE7-17F9-4A9C-BCD2-3F1064B2CFA8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A10D-9AE2-4925-B7D6-83398B38E0E8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B0147EE6-68BF-46CF-BCD0-E0E83A4E8C93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06:18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A7E-41A6-4811-B7FD-E6E2D570693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C75-3E0C-438E-A935-BFBB45D1640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87388BD-6BB9-4E73-AEAA-498B249E689F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70E-F0B7-4756-BDEE-A6F4850E73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BAD-9E1C-4344-B7F9-491210FD4DD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490A17EF-B2DE-4973-9CB8-9C5F4BFFA76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866-B258-4F43-A004-1FB7D6BF5DC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3202-08A8-4FE0-AAFE-17C6D408F47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D2EAE5DF-3D5D-4C9F-AA1C-EEE77BB47F49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EDF-26E4-4D7E-BDC2-CC9A7265E42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28C-9024-472A-8EF5-95AF76C9459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26CD5ADC-EAD2-442E-A3B4-32C51968B92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EB5-AF65-48AF-BBA0-AE9C8A001DB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EC5D-30CA-4BEE-8397-5C8CD6E9152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2E4D1215-2F2E-4187-8979-2E1B21AD5335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806-99F7-4442-AE95-51BBABA23C1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8B58-6C9C-4E3C-B427-69B877734CB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76C153AC-EC03-4E95-91C2-62C2CB0AD6BB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E77E-90CC-487D-9214-E757C979A1C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29D-B36F-480A-93E5-411BD6F83BC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8BE88810-5B3B-4A5D-9D84-CF8A98EDF282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932F-55FB-476D-B418-8AD612341C7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aycle.duplichan@jdpsbk12.org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52578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XCEL SPREADSHEETS</a:t>
            </a:r>
            <a:br>
              <a:rPr sz="4400"/>
            </a:b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JULY 22, 2013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534" name="Picture 3" descr="excel_cartoon.jpg"/>
          <p:cNvPicPr/>
          <p:nvPr/>
        </p:nvPicPr>
        <p:blipFill>
          <a:blip r:embed="rId1"/>
          <a:stretch/>
        </p:blipFill>
        <p:spPr>
          <a:xfrm>
            <a:off x="1560600" y="360360"/>
            <a:ext cx="61023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1143000" y="4724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m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"/>
          <p:cNvPicPr/>
          <p:nvPr/>
        </p:nvPicPr>
        <p:blipFill>
          <a:blip r:embed="rId1"/>
          <a:srcRect l="782" t="7293" r="1561" b="43750"/>
          <a:stretch/>
        </p:blipFill>
        <p:spPr>
          <a:xfrm>
            <a:off x="380880" y="1371600"/>
            <a:ext cx="8105760" cy="3048120"/>
          </a:xfrm>
          <a:prstGeom prst="rect">
            <a:avLst/>
          </a:prstGeom>
          <a:ln w="0">
            <a:noFill/>
          </a:ln>
        </p:spPr>
      </p:pic>
      <p:cxnSp>
        <p:nvCxnSpPr>
          <p:cNvPr id="561" name="Straight Arrow Connector 8"/>
          <p:cNvCxnSpPr/>
          <p:nvPr/>
        </p:nvCxnSpPr>
        <p:spPr>
          <a:xfrm flipV="1">
            <a:off x="2742840" y="4343040"/>
            <a:ext cx="1600920" cy="5342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2" name="Straight Arrow Connector 4"/>
          <p:cNvCxnSpPr/>
          <p:nvPr/>
        </p:nvCxnSpPr>
        <p:spPr>
          <a:xfrm flipH="1">
            <a:off x="7391160" y="456840"/>
            <a:ext cx="2160" cy="98928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3" name="TextBox 13"/>
          <p:cNvSpPr/>
          <p:nvPr/>
        </p:nvSpPr>
        <p:spPr>
          <a:xfrm>
            <a:off x="4495680" y="44956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      to automatically add numbers or click arrow for drop box and choo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will appear below the highlight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" descr=""/>
          <p:cNvPicPr/>
          <p:nvPr/>
        </p:nvPicPr>
        <p:blipFill>
          <a:blip r:embed="rId2"/>
          <a:srcRect l="83402" t="7293" r="14768" b="89040"/>
          <a:stretch/>
        </p:blipFill>
        <p:spPr>
          <a:xfrm>
            <a:off x="5486400" y="4800600"/>
            <a:ext cx="2286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HOW TO WRITE FORMULA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irst:      =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econd:   =SUM(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ird:    Highlight the cells you want to include. They will automatically be included in the formula   =SUM(A1:A5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urth:  ) enter ke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f the cells are not adjacent, use a comma between each cell identificatio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xample:  =Average(A1, C3,D5) enter ke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ul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SYMBOLS FOR FORMUL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+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di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-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ubtrac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*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ltiplica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/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ivis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^ 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ponentia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ORDER OF OPE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y operations that are in parentheses, from left to right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ponentiation (^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ltiplication (*) and division (/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dition (+) and subtraction (-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mportant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does not matter if formula is written in caps or lower c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ell:cell) all of the data from first cell to last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ell,cell) the data from first cell and last cell on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rmula can be dragged instead of retyping it in a new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iding Columns/Row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ight ce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ght cli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d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rcRect l="8633" t="27303" r="68080" b="38986"/>
          <a:stretch/>
        </p:blipFill>
        <p:spPr>
          <a:xfrm>
            <a:off x="4267080" y="2209680"/>
            <a:ext cx="3429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eezing Pa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2720" y="1600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ighlight cell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iew T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reeze P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76" name="Straight Arrow Connector 5"/>
          <p:cNvCxnSpPr/>
          <p:nvPr/>
        </p:nvCxnSpPr>
        <p:spPr>
          <a:xfrm flipV="1">
            <a:off x="1752480" y="3962160"/>
            <a:ext cx="3810960" cy="305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77" name="Picture 3" descr=""/>
          <p:cNvPicPr/>
          <p:nvPr/>
        </p:nvPicPr>
        <p:blipFill>
          <a:blip r:embed="rId1"/>
          <a:srcRect l="782" t="0" r="12501" b="47918"/>
          <a:stretch/>
        </p:blipFill>
        <p:spPr>
          <a:xfrm>
            <a:off x="1752480" y="3276720"/>
            <a:ext cx="5877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ditio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rcRect l="0" t="0" r="6249" b="39587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6"/>
          <p:cNvSpPr/>
          <p:nvPr/>
        </p:nvSpPr>
        <p:spPr>
          <a:xfrm>
            <a:off x="762120" y="160020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tab…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ndition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82" name="Picture 6" descr=""/>
          <p:cNvPicPr/>
          <p:nvPr/>
        </p:nvPicPr>
        <p:blipFill>
          <a:blip r:embed="rId1"/>
          <a:srcRect l="32466" t="23273" r="1561" b="45837"/>
          <a:stretch/>
        </p:blipFill>
        <p:spPr>
          <a:xfrm>
            <a:off x="228600" y="4495680"/>
            <a:ext cx="5640480" cy="1981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2"/>
          <a:srcRect l="32621" t="26580" r="13280" b="45837"/>
          <a:stretch/>
        </p:blipFill>
        <p:spPr>
          <a:xfrm>
            <a:off x="380880" y="1752480"/>
            <a:ext cx="4572000" cy="1782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3"/>
          <a:srcRect l="29716" t="11245" r="12501" b="45837"/>
          <a:stretch/>
        </p:blipFill>
        <p:spPr>
          <a:xfrm>
            <a:off x="5105520" y="2286000"/>
            <a:ext cx="3655800" cy="20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r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86" name="Picture 8" descr=""/>
          <p:cNvPicPr/>
          <p:nvPr/>
        </p:nvPicPr>
        <p:blipFill>
          <a:blip r:embed="rId1"/>
          <a:srcRect l="0" t="0" r="3392" b="45763"/>
          <a:stretch/>
        </p:blipFill>
        <p:spPr>
          <a:xfrm>
            <a:off x="228600" y="289548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9"/>
          <p:cNvSpPr/>
          <p:nvPr/>
        </p:nvSpPr>
        <p:spPr>
          <a:xfrm>
            <a:off x="685800" y="1600200"/>
            <a:ext cx="26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ntir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an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Straight Arrow Connector 4"/>
          <p:cNvCxnSpPr/>
          <p:nvPr/>
        </p:nvCxnSpPr>
        <p:spPr>
          <a:xfrm flipH="1">
            <a:off x="532800" y="1828800"/>
            <a:ext cx="230760" cy="28202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ilter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1"/>
          <a:srcRect l="1561" t="4168" r="3905" b="46875"/>
          <a:stretch/>
        </p:blipFill>
        <p:spPr>
          <a:xfrm>
            <a:off x="152280" y="1600200"/>
            <a:ext cx="8239320" cy="3200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/>
          <p:cNvPicPr/>
          <p:nvPr/>
        </p:nvPicPr>
        <p:blipFill>
          <a:blip r:embed="rId2"/>
          <a:srcRect l="0" t="22918" r="39065" b="23962"/>
          <a:stretch/>
        </p:blipFill>
        <p:spPr>
          <a:xfrm>
            <a:off x="4724280" y="4191120"/>
            <a:ext cx="38102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 Spreadshee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04560" y="1600200"/>
            <a:ext cx="846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merType Md BT"/>
              </a:rPr>
              <a:t>Email: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b615"/>
                </a:solidFill>
                <a:uFillTx/>
                <a:latin typeface="AmerType Md BT"/>
                <a:hlinkClick r:id="rId1"/>
              </a:rPr>
              <a:t>Staycle.duplichan@jdpsbk12.org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merType Md BT"/>
              </a:rPr>
              <a:t>Handout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merType Md BT"/>
              </a:rPr>
              <a:t>www.JDTechCenter.wikispaces.co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eparating First And Last Na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93" name="Picture 5" descr=""/>
          <p:cNvPicPr/>
          <p:nvPr/>
        </p:nvPicPr>
        <p:blipFill>
          <a:blip r:embed="rId1"/>
          <a:srcRect l="0" t="4168" r="29690" b="51043"/>
          <a:stretch/>
        </p:blipFill>
        <p:spPr>
          <a:xfrm>
            <a:off x="228600" y="2514600"/>
            <a:ext cx="6858000" cy="327672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371520" y="160020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….Text to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2"/>
          <a:srcRect l="4688" t="25000" r="73440" b="53130"/>
          <a:stretch/>
        </p:blipFill>
        <p:spPr>
          <a:xfrm>
            <a:off x="3200400" y="4876920"/>
            <a:ext cx="213372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ARTS OF A WORKSHEET/SPREADSHEE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-152280" y="1452600"/>
            <a:ext cx="8991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Naviga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ab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to the right to next cell in same r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ift-Tab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to the left to previous cell in same r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rrow Keys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ve selection one cell in any dir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ift-Ent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up to previous cell in same colum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Moves selection down to next cell in same colum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croll Bar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oll vertically and horizontally through the spreadsh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AutoFi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4038480" cy="15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3" name="Rectangular Callout 3"/>
          <p:cNvSpPr/>
          <p:nvPr/>
        </p:nvSpPr>
        <p:spPr>
          <a:xfrm>
            <a:off x="5410080" y="3352680"/>
            <a:ext cx="2057400" cy="1067040"/>
          </a:xfrm>
          <a:prstGeom prst="wedgeRectCallout">
            <a:avLst>
              <a:gd name="adj1" fmla="val -120689"/>
              <a:gd name="adj2" fmla="val 1351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ick AutoFill Corner and 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ular Callout 4"/>
          <p:cNvSpPr/>
          <p:nvPr/>
        </p:nvSpPr>
        <p:spPr>
          <a:xfrm>
            <a:off x="6172200" y="2057400"/>
            <a:ext cx="2286000" cy="457200"/>
          </a:xfrm>
          <a:prstGeom prst="wedgeRectCallout">
            <a:avLst>
              <a:gd name="adj1" fmla="val -94597"/>
              <a:gd name="adj2" fmla="val 11185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drag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ular Callout 5"/>
          <p:cNvSpPr/>
          <p:nvPr/>
        </p:nvSpPr>
        <p:spPr>
          <a:xfrm>
            <a:off x="2895480" y="4876920"/>
            <a:ext cx="1143000" cy="1295280"/>
          </a:xfrm>
          <a:prstGeom prst="wedgeRectCallout">
            <a:avLst>
              <a:gd name="adj1" fmla="val -87324"/>
              <a:gd name="adj2" fmla="val -1162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dra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5715000" y="5029200"/>
            <a:ext cx="16002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ingdings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mat as a Tab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rcRect l="49958" t="7977" r="2384" b="11865"/>
          <a:stretch/>
        </p:blipFill>
        <p:spPr>
          <a:xfrm>
            <a:off x="1447920" y="1371600"/>
            <a:ext cx="5410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Add A Tit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rcRect l="0" t="0" r="4167" b="68164"/>
          <a:stretch/>
        </p:blipFill>
        <p:spPr>
          <a:xfrm>
            <a:off x="0" y="2743200"/>
            <a:ext cx="8763120" cy="2182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ular Callout 7"/>
          <p:cNvSpPr/>
          <p:nvPr/>
        </p:nvSpPr>
        <p:spPr>
          <a:xfrm>
            <a:off x="4343400" y="1828800"/>
            <a:ext cx="2057400" cy="609480"/>
          </a:xfrm>
          <a:prstGeom prst="wedgeRectCallout">
            <a:avLst>
              <a:gd name="adj1" fmla="val -71837"/>
              <a:gd name="adj2" fmla="val 194967"/>
            </a:avLst>
          </a:prstGeom>
          <a:solidFill>
            <a:srgbClr val="ffffff"/>
          </a:solidFill>
          <a:ln w="19080">
            <a:solidFill>
              <a:srgbClr val="96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ap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ular Callout 8"/>
          <p:cNvSpPr/>
          <p:nvPr/>
        </p:nvSpPr>
        <p:spPr>
          <a:xfrm>
            <a:off x="5410080" y="2743200"/>
            <a:ext cx="2438640" cy="762120"/>
          </a:xfrm>
          <a:prstGeom prst="wedgeRectCallout">
            <a:avLst>
              <a:gd name="adj1" fmla="val -111509"/>
              <a:gd name="adj2" fmla="val 68347"/>
            </a:avLst>
          </a:prstGeom>
          <a:solidFill>
            <a:srgbClr val="ffffff"/>
          </a:solidFill>
          <a:ln w="19080">
            <a:solidFill>
              <a:srgbClr val="96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enter and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matting Spreadshe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rcRect l="0" t="0" r="4167" b="68164"/>
          <a:stretch/>
        </p:blipFill>
        <p:spPr>
          <a:xfrm>
            <a:off x="304920" y="2133720"/>
            <a:ext cx="8153280" cy="20318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"/>
          <p:cNvSpPr/>
          <p:nvPr/>
        </p:nvSpPr>
        <p:spPr>
          <a:xfrm>
            <a:off x="990720" y="2590920"/>
            <a:ext cx="274320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erting Cel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rcRect l="0" t="0" r="2384" b="76275"/>
          <a:stretch/>
        </p:blipFill>
        <p:spPr>
          <a:xfrm>
            <a:off x="152280" y="1676520"/>
            <a:ext cx="87724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00:36Z</dcterms:created>
  <dc:creator/>
  <dc:description/>
  <dc:language>en-US</dc:language>
  <cp:lastModifiedBy/>
  <dcterms:modified xsi:type="dcterms:W3CDTF">2013-06-18T16:32:10Z</dcterms:modified>
  <cp:revision>2</cp:revision>
  <dc:subject/>
  <dc:title>EXCEL BASICS MARCH 24,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